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2EA-E880-400A-8021-A7D38F96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8C2-5B67-4776-8A15-DBB55B92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873-B1D7-44F9-BCA1-31CDEDE9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667-0CAD-4B0E-B9D1-0816DE61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0154-0D64-4326-ABE8-125F3BE4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07B6-B696-4FFE-985D-DD69189C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B31B-2322-4EDD-AAA4-FE421E1F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10FC-5C40-4871-A47B-4E539B4C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17C8-7943-413C-B732-9BD0A78E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EC85-F993-49A1-BB50-9CE9A052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481D-E9FB-40D8-B15F-0D68E94C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BCD-B0DE-4042-8BF3-BAD07C19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DE04-6872-4569-9540-D3AE2CB8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E7C9-5AC8-42AB-95A5-769C1906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4235-8137-4C9D-A0B3-6DE63233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E9BE-5058-4CE8-A93E-F7864EA8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D743-001F-47B4-A2A4-7A49B8E4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BED-227E-4E3F-A37F-FF6E31C8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F2D-0439-45F1-9AC7-697258E3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BA2-FE6A-44C7-A372-D86CB7F5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C2C-A9E7-4FFB-A19F-31A057C7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7B0-0987-405C-BA66-862054CD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712-786E-45E1-B2CF-6022C3E7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459-FC1F-452A-9A72-DED5E768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FD7D-2074-4034-B95E-13BA9A907FF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4F2F-45A5-40C8-B12B-05B4B2B3CA9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Garamond"/>
              </a:rPr>
              <a:t>18 январ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развивалась жизнь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8108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15228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«3» Ответьте на вопрос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Когда и где началось развитие жизни на Земл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акие живые существа обитали в древнем океан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Что представляли собой леса каменноугольного пери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акие вымершие пресмыкающиеся вам известн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огда на Земле появились разнообразные цветковые растения, птицы и млекопитающие?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ка «4». Расположите группы животных  (млекопитающие, птицы, пресмыкающиеся, земноводные, рыбы) в порядке их происхождения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ямоугольниках напиши названия груп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. Оценка «5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утверждать, что батареи в  домах нагреваются за счет энергии Солнца? Ответ обосн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685800" y="4800600"/>
            <a:ext cx="1447920" cy="60948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5"/>
          <p:cNvCxnSpPr/>
          <p:nvPr/>
        </p:nvCxnSpPr>
        <p:spPr>
          <a:xfrm>
            <a:off x="2133720" y="5028840"/>
            <a:ext cx="91512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2" name="Прямоугольник 6"/>
          <p:cNvSpPr/>
          <p:nvPr/>
        </p:nvSpPr>
        <p:spPr>
          <a:xfrm>
            <a:off x="3048120" y="4762440"/>
            <a:ext cx="149544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8"/>
          <p:cNvCxnSpPr/>
          <p:nvPr/>
        </p:nvCxnSpPr>
        <p:spPr>
          <a:xfrm>
            <a:off x="4676400" y="509544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4" name="Прямоугольник 9"/>
          <p:cNvSpPr/>
          <p:nvPr/>
        </p:nvSpPr>
        <p:spPr>
          <a:xfrm>
            <a:off x="5334120" y="4791240"/>
            <a:ext cx="1218960" cy="6858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1"/>
          <p:cNvCxnSpPr/>
          <p:nvPr/>
        </p:nvCxnSpPr>
        <p:spPr>
          <a:xfrm>
            <a:off x="6629040" y="495252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96" name="Прямая со стрелкой 13"/>
          <p:cNvCxnSpPr/>
          <p:nvPr/>
        </p:nvCxnSpPr>
        <p:spPr>
          <a:xfrm>
            <a:off x="6629040" y="5266800"/>
            <a:ext cx="610200" cy="1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97" name="Прямоугольник 14"/>
          <p:cNvSpPr/>
          <p:nvPr/>
        </p:nvSpPr>
        <p:spPr>
          <a:xfrm>
            <a:off x="7458120" y="472428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7467480" y="5133960"/>
            <a:ext cx="914400" cy="30492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вхадиева</cp:lastModifiedBy>
  <dcterms:modified xsi:type="dcterms:W3CDTF">2013-01-18T07:11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